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BDA12-957D-46EA-856E-BF32EA066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96141-7CA5-4910-AC00-AA56FBA4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E9648-8F17-4740-8981-7A642427D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10B1C-8336-46A8-AF38-806A3E07F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C903-61BC-4988-8655-44D55F82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7E95D-37FE-48C1-907F-126793B7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C08D-97D8-4F77-AE9E-648E224B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F017F-65AA-404A-8D23-38D201A1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3280A-068C-4EC5-A842-93A998DC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16D8-F894-48A5-A09E-60572741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8694-769D-4266-9B9A-52AB2D5AC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7A15-A811-4FA2-8E01-F21784DF9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C835-FEE2-46C9-9D9F-BB9DEED55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андалы» эстраднай коллектив историята</a:t>
            </a:r>
            <a:endParaRPr b="0" lang="en-US" sz="4400" spc="-1" strike="noStrike">
              <a:solidFill>
                <a:srgbClr val="000000"/>
              </a:solidFill>
              <a:latin typeface="Arial"/>
            </a:endParaRPr>
          </a:p>
        </p:txBody>
      </p:sp>
      <p:pic>
        <p:nvPicPr>
          <p:cNvPr id="42" name="" descr=""/>
          <p:cNvPicPr/>
          <p:nvPr/>
        </p:nvPicPr>
        <p:blipFill>
          <a:blip r:embed="rId1"/>
          <a:srcRect l="3551" t="1909" r="570" b="4726"/>
          <a:stretch/>
        </p:blipFill>
        <p:spPr>
          <a:xfrm>
            <a:off x="380880" y="3581280"/>
            <a:ext cx="4191120" cy="2535480"/>
          </a:xfrm>
          <a:prstGeom prst="rect">
            <a:avLst/>
          </a:prstGeom>
          <a:ln w="0">
            <a:noFill/>
          </a:ln>
        </p:spPr>
      </p:pic>
      <p:pic>
        <p:nvPicPr>
          <p:cNvPr id="43" name="" descr=""/>
          <p:cNvPicPr/>
          <p:nvPr/>
        </p:nvPicPr>
        <p:blipFill>
          <a:blip r:embed="rId2"/>
          <a:stretch/>
        </p:blipFill>
        <p:spPr>
          <a:xfrm>
            <a:off x="5257800" y="2362320"/>
            <a:ext cx="300672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56840"/>
            <a:ext cx="8229600" cy="1066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Майанан, Тааттанан гастроллуу сылдьан</a:t>
            </a:r>
            <a:endParaRPr b="0" lang="en-US" sz="3200" spc="-1" strike="noStrike">
              <a:solidFill>
                <a:srgbClr val="000000"/>
              </a:solidFill>
              <a:latin typeface="Arial"/>
            </a:endParaRPr>
          </a:p>
        </p:txBody>
      </p:sp>
      <p:pic>
        <p:nvPicPr>
          <p:cNvPr id="61" name="" descr=""/>
          <p:cNvPicPr/>
          <p:nvPr/>
        </p:nvPicPr>
        <p:blipFill>
          <a:blip r:embed="rId1"/>
          <a:srcRect l="3002" t="4337" r="0" b="0"/>
          <a:stretch/>
        </p:blipFill>
        <p:spPr>
          <a:xfrm>
            <a:off x="2438280" y="2057400"/>
            <a:ext cx="4876920" cy="33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ыала-соруга:</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ff"/>
                </a:solidFill>
                <a:latin typeface="Arial"/>
              </a:rPr>
              <a:t>Нэһилиэнньэ сынньалаңын туһалаахтык, көхтөөхтүк атаарыы, культурнай мероприятиелары үрдүк таһымнаахтык тэрийии;</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ff"/>
                </a:solidFill>
                <a:latin typeface="Arial"/>
              </a:rPr>
              <a:t>Эстраднай ырыалары толоруу, саңа талааннары арыйыы,культураны сайыннарыы, саңа ырыалары дьон дьүүлүгэр таһаары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ктуальноһа:</a:t>
            </a:r>
            <a:r>
              <a:rPr b="0" lang="ru-RU" sz="3200" spc="-1" strike="noStrike">
                <a:solidFill>
                  <a:srgbClr val="6600ff"/>
                </a:solidFill>
                <a:latin typeface="Arial"/>
              </a:rPr>
              <a:t> Уһук тыа нэһилиэгэр да талааннары үрдүк таһымнаахтык тэрийии.</a:t>
            </a:r>
            <a:endParaRPr b="0" lang="en-US" sz="3200" spc="-1" strike="noStrike">
              <a:solidFill>
                <a:srgbClr val="000000"/>
              </a:solidFill>
              <a:latin typeface="Arial"/>
            </a:endParaRPr>
          </a:p>
        </p:txBody>
      </p:sp>
      <p:sp>
        <p:nvSpPr>
          <p:cNvPr id="47"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ипотеза:</a:t>
            </a:r>
            <a:r>
              <a:rPr b="1" lang="ru-RU" sz="3200" spc="-1" strike="noStrike">
                <a:solidFill>
                  <a:srgbClr val="6600ff"/>
                </a:solidFill>
                <a:latin typeface="Arial"/>
              </a:rPr>
              <a:t> </a:t>
            </a:r>
            <a:r>
              <a:rPr b="0" lang="ru-RU" sz="3200" spc="-1" strike="noStrike">
                <a:solidFill>
                  <a:srgbClr val="6600ff"/>
                </a:solidFill>
                <a:latin typeface="Arial"/>
              </a:rPr>
              <a:t>Мелодистары бэлэмнээһин, саңа ырыалары киэң эйгэ5э таһаарыы. Төрөөбүт нэһилиэги, улууһу ааттатыы, чиэһин көмүскээһин. Айыл5а, таптал, олох туһунан анаары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333399"/>
                </a:solidFill>
                <a:latin typeface="Arial"/>
              </a:rPr>
              <a:t>Мин Горохов Степа Чэриктэй орто оскуолатын 11 кылааһын үөрэнээччитэ музыка5а интэриэстээх буолан научнай-практическай доклаппын «Сандалы» поп-бөлөх туһунан суруйарга сананным. Быйыл «Сандалы» поп-бөлөх тэриллэ сылдьыбыта 15 сылын туолар юбилейдаах сыла.</a:t>
            </a:r>
            <a:endParaRPr b="0" lang="en-US" sz="2400" spc="-1" strike="noStrike">
              <a:solidFill>
                <a:srgbClr val="000000"/>
              </a:solidFill>
              <a:latin typeface="Arial"/>
            </a:endParaRPr>
          </a:p>
          <a:p>
            <a:pPr marL="322200" indent="-322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333399"/>
                </a:solidFill>
                <a:latin typeface="Arial"/>
              </a:rPr>
              <a:t>1989 икки сыллаахха Бочкарев Яков Михайлович кө5үлээһининэн «Сандалы» эстраднай бөлөх ыччат күүһүнэн тэриллибитэ. Бу кө5үлээһиңңэ 1992 сыллаахха икки киһи Иннокентий Слепцов уонна  Василий Божедонов кэлэн үлэлээн «Сандалы» поп бөлө5ү үрдүк таһымңа таһаараллар. Балар көмөлөрүнэн олохтоохтор ырыа айар буолбуттара. </a:t>
            </a:r>
            <a:endParaRPr b="0" lang="en-US" sz="2400" spc="-1" strike="noStrike">
              <a:solidFill>
                <a:srgbClr val="000000"/>
              </a:solidFill>
              <a:latin typeface="Arial"/>
            </a:endParaRPr>
          </a:p>
          <a:p>
            <a:pPr marL="322200" indent="-322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333399"/>
                </a:solidFill>
                <a:latin typeface="Arial"/>
              </a:rPr>
              <a:t>    </a:t>
            </a:r>
            <a:r>
              <a:rPr b="0" lang="sr-CS" sz="2400" spc="-1" strike="noStrike">
                <a:solidFill>
                  <a:srgbClr val="333399"/>
                </a:solidFill>
                <a:latin typeface="Arial"/>
              </a:rPr>
              <a:t>Туох ханнык иннинэ бөлөх историятыттан билиһиннэрэр буоллахха, Чэриктэйгэ 1989 сыллаахха Яков Бочкарев көүлээһининэн ВИА (вокальнай-инструментальнай ансамбль) үөскээбит. Туох сыаллаах-соруктаах? Сүрүн сыала диэн тыа эдэр ыччатын түмүү, ыччат бириэмэтин туһалаахтык атаарарыгар көмөлөһүү, күүс-уох, көх нэм буолуу диэ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a:t>
            </a:r>
            <a:r>
              <a:rPr b="1" lang="sr-CS" sz="3200" spc="-1" strike="noStrike">
                <a:solidFill>
                  <a:srgbClr val="000000"/>
                </a:solidFill>
                <a:latin typeface="Arial"/>
              </a:rPr>
              <a:t>Сандалы“ бөлөх бастакы састааба:</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ff"/>
                </a:solidFill>
                <a:latin typeface="Arial"/>
              </a:rPr>
              <a:t>Орто Халыматтан икки ырыаһыт Марианна Спиридонова, Александр Оконешников, Верхоянскайтан Василий Божедонов, Уус-Майаттан Иннокентий Слепцов, ону таһынан Николай Бочкарев, Семен Ушницкай, Петр Спиридонов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ff"/>
                </a:solidFill>
                <a:latin typeface="Arial"/>
              </a:rPr>
              <a:t>    </a:t>
            </a:r>
            <a:r>
              <a:rPr b="0" lang="sr-CS" sz="2000" spc="-1" strike="noStrike">
                <a:solidFill>
                  <a:srgbClr val="0000ff"/>
                </a:solidFill>
                <a:latin typeface="Arial"/>
              </a:rPr>
              <a:t>звукооператор Степан Бочкарев, Ньургуйаана Сивцев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rcRect l="5478" t="4653" r="3130" b="5440"/>
          <a:stretch/>
        </p:blipFill>
        <p:spPr>
          <a:xfrm>
            <a:off x="5649840" y="1523880"/>
            <a:ext cx="265608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ff"/>
                </a:solidFill>
                <a:latin typeface="Arial"/>
              </a:rPr>
              <a:t>- 1997 «Сандалы» бөлөх дьон ыччат үлэлэрин сыаналаатыннар диэн   Чэриктэйгэ  презентация –ыһыах тэрийбиттэрэ. Онно күүс-көмө буолбуттара:  Уус-Алдан администрацията, баһылыга А.В. Мигалкин., С.С. Бурнашев директордаах «Чолбон» чааһынай тэрилтэ, А.И. Босиков директордаах «Радон» производственнай холбоһук, Архитектура министерствота-солбуйааччы министр Ф.И. Босиков, Ыччат, спорт уонна туризм министерствота-министр В.П. Ноговицын, Г.Г. Кириллин директордаах «Якутптицепром», И.В. Бочкарев директордаах «Сахаконцерт» холбоһук.</a:t>
            </a:r>
            <a:endParaRPr b="0" lang="en-US" sz="2000" spc="-1" strike="noStrike">
              <a:solidFill>
                <a:srgbClr val="000000"/>
              </a:solidFill>
              <a:latin typeface="Arial"/>
            </a:endParaRPr>
          </a:p>
          <a:p>
            <a:pPr marL="343080" indent="-343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ff"/>
                </a:solidFill>
                <a:latin typeface="Arial"/>
              </a:rPr>
              <a:t>- 29.03.97 Туймаада туналыйар туонатыгар, Кулаковскай аатынан Культура киинигэр «Сандалы» бөлөх биэс сыллаах үлэтин көрдөрөр айар киэһэтэ буолбута.</a:t>
            </a:r>
            <a:endParaRPr b="0" lang="en-US" sz="2000" spc="-1" strike="noStrike">
              <a:solidFill>
                <a:srgbClr val="000000"/>
              </a:solidFill>
              <a:latin typeface="Arial"/>
            </a:endParaRPr>
          </a:p>
        </p:txBody>
      </p:sp>
      <p:pic>
        <p:nvPicPr>
          <p:cNvPr id="53" name="" descr=""/>
          <p:cNvPicPr/>
          <p:nvPr/>
        </p:nvPicPr>
        <p:blipFill>
          <a:blip r:embed="rId1"/>
          <a:srcRect l="0" t="11579" r="5262" b="0"/>
          <a:stretch/>
        </p:blipFill>
        <p:spPr>
          <a:xfrm>
            <a:off x="2209680" y="4191120"/>
            <a:ext cx="4343400" cy="23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Сандалы“ бөлөх таһаарбыт магнитнай альбомнар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990 сыллаахха</a:t>
            </a:r>
            <a:r>
              <a:rPr b="0" lang="sr-CS" sz="2000" spc="-1" strike="noStrike">
                <a:solidFill>
                  <a:srgbClr val="0000ff"/>
                </a:solidFill>
                <a:latin typeface="Arial"/>
              </a:rPr>
              <a:t> «Эдэр талааннар» диэн маңнайгы магнитнай альбом күн сирин көрбүт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992 сыллаахха</a:t>
            </a:r>
            <a:r>
              <a:rPr b="0" lang="sr-CS" sz="2000" spc="-1" strike="noStrike">
                <a:solidFill>
                  <a:srgbClr val="0000ff"/>
                </a:solidFill>
                <a:latin typeface="Arial"/>
              </a:rPr>
              <a:t> «Төрөөбүт дойду» диэн үһүс магнитнай альбом автор-мелодист Иннокентий Слепцов айымньыларынан тахсыбы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993 сыллаахха</a:t>
            </a:r>
            <a:r>
              <a:rPr b="0" lang="ru-RU" sz="2000" spc="-1" strike="noStrike">
                <a:solidFill>
                  <a:srgbClr val="0000ff"/>
                </a:solidFill>
                <a:latin typeface="Arial"/>
              </a:rPr>
              <a:t> төрдүс альбом «Эдэр саас» ырыалара, автордарынан Иннокентий Слепов, Петр Спиридонов буолбуттар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994 сыллаахха</a:t>
            </a:r>
            <a:r>
              <a:rPr b="0" lang="ru-RU" sz="2000" spc="-1" strike="noStrike">
                <a:solidFill>
                  <a:srgbClr val="0000ff"/>
                </a:solidFill>
                <a:latin typeface="Arial"/>
              </a:rPr>
              <a:t> «Олох долгуннара»  диэн бэһис альбом тахсыбыта. Манна Иннокентий Слепцов мелодиятыгар уонна тылларыгар Семен Ушницкай уонна бэйэтэ толоруутугар элбэх ырыа норуот биһирэбилин ылбы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995 сыллаахха</a:t>
            </a:r>
            <a:r>
              <a:rPr b="0" lang="ru-RU" sz="2000" spc="-1" strike="noStrike">
                <a:solidFill>
                  <a:srgbClr val="0000ff"/>
                </a:solidFill>
                <a:latin typeface="Arial"/>
              </a:rPr>
              <a:t> «Чэриктэйим кырдаллара» диэн алтыс альбом олохтоох мелодист Семен Ушницкай «Чэриктэйим кырдаллара», Петр Спиридонов ырыалара тахсыбы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996 сыллаахха</a:t>
            </a:r>
            <a:r>
              <a:rPr b="0" lang="ru-RU" sz="2000" spc="-1" strike="noStrike">
                <a:solidFill>
                  <a:srgbClr val="0000ff"/>
                </a:solidFill>
                <a:latin typeface="Arial"/>
              </a:rPr>
              <a:t> «Сахам сибэкки кыысчаана» сэттис альбом Василий Божедонов бэйэтин айымньыларынан тахсыбы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үмүк</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Тыа уһук нэһилиэгиттэн Республика5а бастакы альбомнар Уус-Алдан Чэриктэйиттэн тахсан норуот биһирэбилин киэңник ылбыта. Ол туоһутунан «Сандалы» билиңңи туругунан хана да тиийдэр элбэх ырыалаах-тойуктаах, кэпсээннээх-ипсээннээх үтүө-мааны ыалдьыт, сэргэхситээччи, үөрдэр көтүтэр коллектив буолара дакаастаммыта. Улахан таһымнаах артыыстары кытта сибээс олохтонно. төрөөбүт дойдубутугар тапталы ырыанан тиэртэ. Хайа да артыыстан итэ5эһэ суох ыллыыр-туойар, толорор үрдүк маастарыстыбалаа5ын иһин Саха Республикатын культура министерствотын иңэриитинэн народнай коллектив үрдүк аата иңэриллибитэ.</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Arial"/>
              </a:rPr>
              <a:t>Боро5онно «Эдэр саас куннэригэр»</a:t>
            </a:r>
            <a:endParaRPr b="0" lang="en-US" sz="3600" spc="-1" strike="noStrike">
              <a:solidFill>
                <a:srgbClr val="000000"/>
              </a:solidFill>
              <a:latin typeface="Arial"/>
            </a:endParaRPr>
          </a:p>
        </p:txBody>
      </p:sp>
      <p:sp>
        <p:nvSpPr>
          <p:cNvPr id="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пиридонов Петя «Гитаратыгар»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алышев Гоша «Звездочк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Ушницкий Семен «Кыламаннар кун ункуулуур» антуражтыы сылдьа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rcRect l="4185" t="6510" r="21882" b="185"/>
          <a:stretch/>
        </p:blipFill>
        <p:spPr>
          <a:xfrm>
            <a:off x="457200" y="2514600"/>
            <a:ext cx="40384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графена</cp:lastModifiedBy>
  <dcterms:modified xsi:type="dcterms:W3CDTF">2008-11-19T10:31: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